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1.xml.rels" ContentType="application/vnd.openxmlformats-package.relationships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D33-3B42-4688-9A45-3CEF42DD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1D75-5C9F-47FC-9881-A60CB391DA29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032-020D-41D2-BAA1-198F38A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94C-4F61-4F22-AAA1-61252534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395-4387-48F9-AD06-F67CA9BD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A68-D370-4FB8-9BFD-D3B04DA3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739D-B3B8-4195-923C-5AD6555A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6123-F1CB-4BC4-9569-0288FA1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DE20-3C3A-4231-B8D4-DCA37D9E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0AE0-A12F-42EA-BD72-A9903910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C8DA-9F8D-4537-B097-5CF2E007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595-2552-4CAC-B4F8-CDE91D34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AA2-B0C6-4C56-990D-4EF8C019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106-F510-4EFB-80B7-EBF14E7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0C8B-6BA4-4B72-B62A-82F5BA1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BB76-E313-475E-B3F2-6D1E1E7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72DE-EDFB-4AD2-97D3-119E24CE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9EBF-4E29-4255-B1FE-A8055554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08BD-C28A-43E8-9828-D3C631A9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94F36B-988E-413E-872C-B649246B8A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4AA91-5D72-430E-AB43-63582C7E4C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94087E-EC3D-42AF-B6C2-52005916A3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59D539-D9E5-4403-8110-34E2A54781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618BC-0C7A-4E06-8B2D-FF710E1D4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E40-5C56-46F7-97EF-76A37D26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B1C16F-AA2D-4CED-93E7-4343E30147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F90F7C-436E-4900-B005-34347FD2AB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FD085-7A42-4EEA-BAC5-6340B3C849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04E344-BA6E-4F96-9B5D-A5C882CE54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50BB2-5586-44EA-A004-61C4F61269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AD3605-A434-43C3-8D77-B6FC6EEDF0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63105-ACFD-4E06-93AD-6E979595B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9D1F-451D-4D4F-B53E-AEBA0974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DFF2-5D3D-4F47-8428-BBEFA8DC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DBE-BE32-465C-88F2-3B21497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D2D-A27E-41AF-A648-32299AE7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C5A-D479-4608-9B12-0E0425C8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550D-BE03-41C2-A136-F06A1688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C71B-98FA-4CA5-B0F0-049F35A7F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AE9-B737-4009-8E2A-18BCD695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FDB0-62EE-4435-A271-413DF2792178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ФИЗИКАЛНА ТЕРАПИЈА НАКОН ФРАКТУРА КОСТИЈУ ДОЊЕГ ЕКСТРЕМИТЕТА</a:t>
            </a:r>
            <a:br>
              <a:rPr sz="2400"/>
            </a:b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660066"/>
                </a:solidFill>
                <a:latin typeface="Tahoma"/>
              </a:rPr>
              <a:t>МИШИЋНЕ ДИСТРОФИЈЕ КОД ДЕЦЕ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горњег окрајка бутне кост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Преломи проксималне ⅓ бутне кост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главе бут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врата бут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еритрохантерни преломи бут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нстертрохантерни преломи бут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убтрохантерни преломи бутн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1702-6BBD-42C8-BCB8-02A8B60C5D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Преломи врата бутне к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ат бутне кости се налази под углом од 140-145⁰ са дијафизом кости и од тела бутне кости је одвојен зглобном капсул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 најчешће везан уз старију животну доб, остеопорозу и ослабљени тонус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прелома због оштећења кс долази до асептичне некрозе главе бутне кости (ПТЦ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9DBA-4445-4CA4-9BA4-7FD5FB94B3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Преломи врата бутне к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учесталији прелом у популацији старије животне доб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9 од 10 прелома код старијих од 65 год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Често су узро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хоспитализације старих људ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мортал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губитка функције (велики је % морталитета и инвалидите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5338-4100-4180-B1C3-F174700A15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Преломи врата бутне кост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77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ипични механизам повређивања је пад на повређену ногу која се роти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5C9-50F5-4FBE-845B-01BFC03E55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9907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стички: механизам повређивања код особа старије животне доб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линичка сли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ђени наводе бол у целој бутној кости и куку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активна покретљивост је скоро потпуно ограничена, при пасивним покретима болесник наводи јаке болове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ђена бутна кост је у спољној ротацији (преко 45⁰) и постоји скраћење ноге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4A3C-31F6-44F7-BB91-BEB7D4A60C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дијафизе бутне 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ворени и затворени прелом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ста су чести, настају у свакој животној доби и они представљају озбиљне и за живот опасне повре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у деловањем директне силе на натколениц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на је карактеристика је:  велики фрактурни хематом и дислокација преломних фрагмената, која настаје због деловања сила јаких мишића натколенице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акође постоји могућност масивног крварење на месту прелом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B4F3-11A1-407A-9844-4D9B9BDE99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 доњег окрајка бутне 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61760" y="17524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у најчешће деловањем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ректн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ле у пределу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а) супракондиларне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) кондиларн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9DAA-68FB-4FDA-B2BA-3958B9B2E8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линичка слик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ћине прелома фемура је толико очигледна да се њихова Дг сматра једним од најлакших дијагноза у медици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г се поставља на основу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анамнез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клиничке слик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објективног прегледа уз прецизно описан механизам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опунска дијагностик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РТГ (АП и профил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6564-6329-4C8F-8E42-925684B9A5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Лечењ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 се на две основне груп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. неоперативно лечењ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углавном се односи на пацијенте са тешким коморбидитетима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2.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оперативно лечењ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које је терапија избора код прелома врата бутне к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3D77-DD3B-4267-85ED-146A0AA10F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у пределу зглоба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диларни преломи фему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платоа тиб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чаш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уксациони преломи зглоба кол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инутивни преломи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мултифрагментални преломи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траартикуларни преломи главе тиб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F1F-30CB-4215-B613-3C8397674D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12. </a:t>
            </a: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ФИЗИКАЛНА ТЕРАПИЈА НАКОН ФРАКТУРА КОСТИЈУ ДОЊЕГ ЕКСТРЕМИТЕТА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МАТСКЕ ЦЕЛ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реломи костију доњих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Физикална терапија након прелома 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Компликације лечења прело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Мишићне дистрофије код де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38D2-2BDA-4401-9B6C-002D3BB7A3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чаш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33520" y="16002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тела спада у сезамоидне кости и налази се у тетив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на има врло важну улогу у стабилизацији коле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пателе доста су чести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стају дејством директне силе на колено (при паду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171A-16B3-40B3-8CF4-BE012A737D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потколениц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тколеницу чине две дуге кости које се међусобно узглобљују на свом проксималном и дисталном кра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одела прелома ј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проксималне ⅓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редњ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алне ⅓ по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E13B-AEC8-44AD-B4FC-5C070CA1F4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Преломи проксималне ⅓ потколенице -</a:t>
            </a:r>
            <a:br>
              <a:rPr sz="2800"/>
            </a:br>
            <a:r>
              <a:rPr b="1" i="1" lang="sr-Latn-CS" sz="2800" spc="-1" strike="noStrike">
                <a:solidFill>
                  <a:srgbClr val="660066"/>
                </a:solidFill>
                <a:latin typeface="Tahoma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660066"/>
                </a:solidFill>
                <a:latin typeface="Tahoma"/>
                <a:ea typeface="Times New Roman"/>
              </a:rPr>
              <a:t>FRACTURA CONDYLI TIBIAE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ловањем директне сил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при саобраћајним несрећ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D8D1-F3D0-43CF-A5F2-4B481732C7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средње ⅓ потколен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и преломи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дешавају на прелазу средње трећине у дисталн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јством директ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ворени и затворе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FEB8-38F0-4480-AC9A-F5690413FE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Преломи дисталне  ⅓ потколен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у деловањем силе преко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ална трећина потколенице обухвата дисталну метафизу тибије и фибуле и предео горњег скочн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е се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) супрамалеоларне прелом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) малеоларне прелом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6038-8E66-4B6E-8CD1-2C46C1A55D2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ПРЕЛОМИ ПОТКОЛЕНИЦЕ У НИВОУ СКОЧНОГ ЗГЛОБ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алеолар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ималеолар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Трималеоларни прелом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– повреда оба малеолуса са задњим делом зглобне површине тиби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18DF-EEF6-472A-9725-38A682DB1E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8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 у пределу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ство деформитета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отворених прелома крајеви костију пробијају кож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тан је оток и хематом потколен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пособност активног покрета повређене ноге, а пасивно покретање изазива оштар 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 прегледу чују се крепитације и патолошка покр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е су повреде неуроваскуларних елемената потколенице са губитком моторике и сензибилитета, али и угроженошћу 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61AE-AF03-4646-9D33-E3C26A20C9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стопал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у 3 груп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1. Преломи задњег дела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петне кости и талуса, као и осталих тарзалних ко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2. Преломи средњег дела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–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метатарзалних ко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3. Преломи предњег дела стоп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реломи прстију стопа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508A-C8FA-43A1-8989-E61451CB8C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КАЛКАНЕУС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минутивни пре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настају код скока са висине, јер је петна кост сунђерас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 зараста з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 недељ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 с дислокацијом имају лошу прогнозу, а лечење је оперативном фиксацијом фрагмен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2E81-9C08-4818-A442-D9AED75B488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ФИЗИКАЛНА ТЕРАПИЈА НАКОН ПРЕЛОМА ДОЊИХ ЕКСТРЕМИТЕТ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</a:rPr>
              <a:t>Преломи костију доњих екстремитет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Циљеви рехабилита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а едема, превенција компликација, стимулација стварања калуса, успостављање наруше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нцип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 мобилизацијом и оптерећењем почети што пр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терећење постепено,не пасив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слити на компликације, трајање третм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е фаза имобилизације и постимобилизациона фа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3F32-D371-49FB-B5A5-D758F87720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За време имоби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- стимулација остеоген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4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.- превенција компликација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(због дуготрајног мировања)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мбомболијских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контрак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декуби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КВ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Р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E5FE-10E9-453F-8E74-66C0B0091BF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Циљ ране рехабилит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858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ПОВРАТАК ПАЦИЈЕНТА У ФУНКЦИОНАЛНИ СТАТУС ПРЕ НАСТАНК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започети што пре функционално оспособља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адекватна и систематска процена функционалног стат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индивидуални РХ третма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рилагодити системском и функционалном статусу интензитет РХ третм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функционална процена на почетку РХ третмана, контролно ретестирање сваке 2 недеље (по потр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 и чешће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7AB-D33B-4CF5-8841-7FB54157A3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Могући проблем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- старије особе (слабост вида, слуха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-когнитивни дефици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-коморбидитети (КВС, депресија, неуролошка обољења..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B55F-0876-4763-AE1A-5B86980ADE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на ослонца и вертика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кционална процена кроз специфичне тестов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5BD9-BF1C-49FA-B82A-CD12B6A03A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СТИМУЛАЦИЈА ОСТЕОГЕНЕ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тичке контракције-30%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Ч”  ослонац - пиезоелектричн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тракција мишића и мобилизација суседних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 - 90-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или 10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3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m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 1-2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 (64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Hz, 1-2 x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60AE-AC5F-499F-B9C9-05327BEAFF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ЦИЉ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јачање мишићне снаге трауматизиваног дела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јачање слободних делова тела (активне и активне вежбе са отпоро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савлађивање контрактура: активно-потпомогнуте вежбе, вежбе ист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обука ходу уз помоћ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респираторна кинезитерапија (дисајне вежб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C9F-F829-48B4-8037-58D9C3C9D4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ани КТХ третман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мењује се током имобилизације и обухва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изометријске вежбе, позиционирање зглоба и елевација повређеног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скидања гипса спроводи се активан програм савлађивања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осттрауматске контр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истезањ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ста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балистичко истез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НФ техника (холд релакса, и контакт-релакс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4FDB-AC3D-4E5D-8A52-82E55A1F96A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скидања гипса програм се састоји 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роцена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роцена покретљивости (М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роцена обима и дужине 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израда КТХ прогр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спровођење КТХ прогр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корекција КТХ програма на основу контролног функционалног тест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роцена коначног стања на основу моторичких тест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A670-F8E2-477C-B8B1-8E25896AC2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гнет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 примењује у третману ожиљака и адхезија и поремећаја мишићног тонуса и код контракту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сажа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јство је усмерено против отока и локалног поремећаја 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кусак - хипобарич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 рад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6F74-955C-4B0D-BDD0-2E5DC70EE27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Прелом костију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пуни или непотпуни прекид континуитета коштаног ткива, проузрокован силом која превазилази границу његове природне еластич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бити потпун, с прекидом континуитета периоста или непотпун, кад је периост очу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 обзиром на стање коже изнад места прело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отворени преломи (кожа оштећена,склоност ка инфекцији)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затворени преломи (кожа интактн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EF2-E51D-4F8C-AB27-020EA1B5B9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крио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топле диферентне зоне (парафин, ИР зраци, КТД или микроталас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лектротерапија (СГ, ЕФ, ДДС, Ледукове струје, ЕС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 обли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ИФС, ТЕН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12A4-6B96-4CC0-B8A5-670C2EAB8B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је прелом лечен оперативно од модалитета физикалне терапије користим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интерферентн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AE6C-5C43-421C-B07C-F16AFF562E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хабилитација после прелома костију има велику улогу у процесу опоравка пацијента и враћање АД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кална терапија има велики значај и након оперативног и неоперативног лечења прело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Успех рехабилитације зависи од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мотивисности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 адекватог рехабилитационог третм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започињања РХ третмана на вре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тимски р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AEB4-5D6C-453D-8056-93F6C3A0C5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КОМПЛИКАЦИЈЕ ЛЕЧЕЊА ПРЕЛОМ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 лечења прело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ликације лечења прелома могу бити последиц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ежине повред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слабљене отпорности организма (ДМ, алкохолизам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атко време после повреде или данима, недељама и месецима касније, са или без трајног оштећења функција повређеног дела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D2ED-9D5A-4798-AC35-509CFE2707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ок (повреда дијафизе бутне кос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мб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мбол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фе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васкуларна некроза (</a:t>
            </a:r>
            <a:r>
              <a:rPr b="0" i="1" lang="en-US" sz="2400" spc="-1" strike="noStrike">
                <a:solidFill>
                  <a:srgbClr val="40458c"/>
                </a:solidFill>
                <a:latin typeface="Tahoma"/>
              </a:rPr>
              <a:t>necrosis aseptica ossium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983A-E705-4E22-AC8E-1844815D38D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ОМПЛИКАЦИЈА ЛЕЧЕЊА ПРЕЛОМ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УСПОРЕНО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ТВАРАЊ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КАЛУС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ПОСТТРАУМАТСКА РЕФЛЕКСН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ИМПАТИЧКА</a:t>
            </a:r>
            <a:r>
              <a:rPr b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ДИСТРОФИЈ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51760" indent="-4586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УДЕК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ОВ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ОСТЕОДИСТРОФИЈ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51760" indent="-4586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ИНДРОМ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РАМ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ША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851760" indent="-45864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КАУЗАЛГИЈ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ПОВРЕД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ПЕРИФЕРНИХ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НЕРАВ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ПСЕУДОАРТРОЗ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ЛАЖНИ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ЗГЛОБ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ВОЛКМАНОВ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ИСХЕМИЧК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КОНТРАКТ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ФРАКТУР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МАЛ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АНАТА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–</a:t>
            </a:r>
            <a:r>
              <a:rPr b="1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ЛОШЕ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СРАСТАО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000" spc="-1" strike="noStrike">
                <a:solidFill>
                  <a:srgbClr val="40458c"/>
                </a:solidFill>
                <a:latin typeface="Tahoma"/>
              </a:rPr>
              <a:t>ПРЕЛ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523800" indent="-52380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BA0-FFBE-4AD1-9B16-2AE33C54EA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УСПОРЕНО СТВАРАЊЕ КАЛУ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да кост не зараста у просечном временском року, него касније (обично после 4 месеца од прело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о успореног стварања калуса довод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рста и место прело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ње циркулациј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ституција, старост, кондиција болесник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позиција прелома (имобилизациј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Ипак постоји потенцијал за зарастањем костиј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 разлику од псеудоартроза (које се лече искључиво оперативно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9C85-FB63-4F52-BCD3-452E609733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ње које се карактериш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роничним бо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Бол је жарећег карактера и захвата једну рег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им болова имамо и симптоме и знаке поремећај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импатикус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бледило или црвенило ко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ок,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атрофија мишића у захваћеном сегменту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ремећај моторике и сензибил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740-1F50-4136-AC2F-38F6B4C6E9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олест протиче кроз 3 стадију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утн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рофичн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трофични стадију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A1FB-2199-46D8-B3C9-AF73ADAFF2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еломи карлице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рлицу и карлични прстен чини више костију (бедрена, пубична и седална кост, сакрум) и његови преломи су нарочито оп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ни, јер се често д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оде д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унутрашњих органа који су смештени у карлици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4A9-F6C2-40A5-B8AA-7F78B1C383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утни стадијум траје 1-3 месе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рактерише с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о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који се може провоцирати покретом или се јавља спонтано, чак преко ноћи, затим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црвенило, оток, хиперхидроза, хипертрихоза, појачан раст нокт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губитка функ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и и пасивни покрет су ограниче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727C-47FD-4ED9-90EA-263C101E19C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трофички стадијум тра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-6 месец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рактерише с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аким бо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себно п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кретима и оток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рвенило коже постепено прелази у бледило и цијаноз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жа постаје све више сува, и заједно са поткожним ткивом атрофи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лаке и нокти успорено рас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еопениј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E87-8D4A-4C26-8F73-0300FCC355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трофички стадијум траје од неколико месеци до неколико годи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таје оток и нема бола, кожа постаје сјајна, бледа, сува и атрофична, која је слабо прокрвљена са појавом хладноће у екстремитету. Долази до трајних промена зглобова попут контрактура и  деформација. Често остају функционалне ограничености и па и инвалидите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тивно стање након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6 месец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97AE-6CDA-496A-90EA-118D2D1CB5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: мрљаста атрофија кост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A2BD-E9A3-4465-A2DA-53C187C268D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ЕЧЕЊ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каментоз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прва два стадијума лечење је успешно у 8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есника и не оставља функционалних последи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трећем стадијуму промене су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иреверзибилн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5CB7-5026-4C96-BCFE-935FCCEA3A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Right Arrow 5"/>
          <p:cNvSpPr/>
          <p:nvPr/>
        </p:nvSpPr>
        <p:spPr>
          <a:xfrm>
            <a:off x="152280" y="5486400"/>
            <a:ext cx="838440" cy="38088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40458c"/>
          </a:solidFill>
          <a:ln w="25560">
            <a:solidFill>
              <a:srgbClr val="2c30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1 стадију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00 Hz, 1-100 Hz, 60-100 Hz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, ЕФ Новокаина, КЈ, кортикостероида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hiomuc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 локално, суберитемне д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D32-36B5-4D0B-A851-F7A5E3AC4C4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2 стадију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, ЕФ Новокаина, КЈ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Д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 (уз опрез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995F-63C8-432F-9DEE-A71128B27D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Koмплексни регионални болни синдром (Complex regional pain syndrome- CRPS), Судекова дистрофија, алгодистрофиј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3 стадију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тренутним тегобама и функционалном статус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ABD9-3271-4D21-8146-66660C8C86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лкманова</a:t>
            </a:r>
            <a:r>
              <a:rPr b="1" lang="sr-Latn-C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хемијска контрактур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као последица повреде или компрес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рахијалн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ртери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о се стање у почетку карактерише  појавом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бола, бледила, парестезија и губитком пулс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о наступи некроза, постепено ће се развити слика контрактуре, којом доминир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прсти испружени у МЦП зглобовима, а флектирани у ИФ зглобовим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 је најтежа, али срећом врло ретка комплик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8F25-DE66-41FB-8E63-F863CA6CCA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лкманова</a:t>
            </a:r>
            <a:r>
              <a:rPr b="1" lang="sr-Latn-C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хемијска контрактур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ледица је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схемичног оштећења мишића дубоких флексора на подлактиц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pt-BR" sz="2400" spc="-1" strike="noStrike">
                <a:solidFill>
                  <a:srgbClr val="40458c"/>
                </a:solidFill>
                <a:latin typeface="Tahoma"/>
              </a:rPr>
              <a:t>m. flexor digitorum profundus i m. flexor pollicis longu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ледица је оштећене циркулације у подручју л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65A6-8833-4759-9E78-E6F4B4851D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КАРЛ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вулзио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ом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рлич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сте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е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сло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ом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арличн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сте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ислокац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цетабулу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рс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п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9AE0-1DAD-4C61-AE36-D4C93495B4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олкманов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схемијска контрактур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3772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до оштећења циркулације довод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овреда или компресија брахијалне артер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а лакт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или нарочито супракондиларни преломи хумер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D5E2-5747-4F22-9450-C3979E3E52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Волкманова</a:t>
            </a:r>
            <a:r>
              <a:rPr b="1" lang="sr-Latn-C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и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схемијска контрактур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ечењ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хируршко лечење (фасциотом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физикал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8836-4233-42DD-8ED1-CDB4A94883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90000"/>
              </a:lnSpc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перативна-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дужењем флексорних тетива подлактице или скраћењем костију подлак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2.Дуготрајна физикална терапија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ске процедур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на 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41E-34C6-424D-BF28-D93E3D1050C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20"/>
                </a:solidFill>
                <a:latin typeface="Tahoma"/>
              </a:rPr>
              <a:t>MYOSITIS OSSIFICAN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62120" y="1599840"/>
            <a:ext cx="48765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о последица повреда коштано-зглобног система може у извесним случајевима да дође до метапластичких промена у смисл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89f7"/>
                </a:solidFill>
                <a:latin typeface="Tahoma"/>
              </a:rPr>
              <a:t>окоштавања мишића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f89f7"/>
                </a:solidFill>
                <a:latin typeface="Tahoma"/>
              </a:rPr>
              <a:t>осифицирања створених хемато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99B2-9589-4B93-AB3D-7C539AC4534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З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нешто вишим доз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Ф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yomuca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тикостероид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ршка тх у смислу отклања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ојећег осификата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9A1D-0F07-45FD-A234-B384B2C674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СЕУДОАРТРО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срасли преломи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сеудоартрозе су прелом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де и након 8 месеци н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шло до зарастања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међу несраслих уломака кости ствара се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езивнохрскавично ткив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односно формира се тзв. лажни зглоб или псеудоартроз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4DD-B566-4F1D-8D51-FB84195789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СЕУДОАРТРО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стаје због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нестабилности, уништ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аскуларизације уломака, инфек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ечењ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хируршк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78C3-3AF9-4B98-8F81-C4924906F6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РАКТУРА МАЛЕ САНАТА -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ЛОШЕ СРАСТАО ПРЕЛОМ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који је зарастао у лошем положај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омета функцију екстремитет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атра се лоше сраслим прелом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Лоше срасли преломи настају нако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 лоше ортопедске репозиције ил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секундарним померањем коштаних улома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4DDD-68B2-4509-B17E-45100ECE7E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40458c"/>
                </a:solidFill>
                <a:latin typeface="Tahoma"/>
              </a:rPr>
              <a:t>МИШИЋНЕ ДИСТРОФИЈЕ КОД ДЕЦЕ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Мишићне дистроф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е хетерогену групу наследних поремећаја које карактериш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 прогресивна мишићна слабост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 губитак мишића са различитом тежином и дистрибуц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линичка дијагноз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е базира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 расподели и тежини мишићне слаб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начину наслеђивањ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4760" indent="-374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исуству симптома боле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FADA-E9B5-4953-BA31-CCB54961BD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КАРЛИЦ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Узрок настанка прелома карлиц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дејство силе великог интензитета - саобраћајних несрећа, падова са великих висина, експлоз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код младих – авулзион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ломи, код старијих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дов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: оперативно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нзерв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522-D565-424D-8E38-5F82DD3A0CB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Мишићне дистроф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Наследне, прогресивне болест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првенствено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скелетних мишић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ји резултирају дегенерацијом мишићних ћелија и доводе до развоја мишићне слаб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азликују се п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клиничкој слиц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атолошким промена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начину наслеђива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D3B3-D4E5-443B-89D4-69A4169C40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дела према дистрибуцији мишићне слабост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ушенов 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захваћа мишиће раменог појаса, карлице и флексоре врата, уз хипертрофију потколениц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мери-Дреифус ти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а скапулохумералном и перонеалном дистрибуцијом уз рани развој контрактур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јасни облик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захваћени су мишићи карличног и раменог појас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ацио-скапуло-хумерални 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а захваћањем мишића тог подручја уз перонеалну групу мишић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истални 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слабост је изражена на дисталним мишићним групам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●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куло-фарингеални обли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захваћени су мишићи тог подручја уз могућност и захваћења мишића раменог појаса и мишића екстремит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C3C-C97F-45A8-B16D-9787E161FB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Мишићне дистроф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ћина мишићних дистрофија има прогресиван ток, али то није увек правил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ушенова мишићна дистро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463-E436-48BC-AE39-2B9DD271FD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ви симптоми обично се се не препознају до 3 године живо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ђутим анамнестички се обично сазнаје да је код већине дечака моторни развој био успорен, често су проходали тек после 15 месеци живота. При ходу су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непретни и често пада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ава клиничка слика се развија између 3-4 године: тешкоће при ходу, отежано устајање из чучња, позитиван Говерсов знак, слабост флексорних мишића, уз хипертрофију мишића задње ложе поткол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163-8358-47FB-897E-161D174668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599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слабости екстензорне групе мишића ход 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“гегав”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 изражену лумбалну лордоз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мени појас је забачен  уназад, криласте лопат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опатично л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 се теже пењу уз степениц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C2C2-D746-42A5-BDEC-AF85A0B897A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61760" y="12952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епено пацијент постаје непокретан, обично до 10-те године живо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развоја контрактура, нарочито на ДЕ (АТЦ), након тога и ГЕ и развој кифосколио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а слабост уз развој контрактура доводи до настанка инвалидитета код ових болесни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E9C2-F4C8-4467-9193-ED41FCD487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ијагностик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ична и породична анамне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енетска анали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и прегле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ни функционални тестов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Лабораторијски прегле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зими серума- ↑ вредности креатинин фосфокиназе - ЦП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↑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нсамина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МНГ ЕКГ, РТГ срца и плу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пирометр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иопсија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43A3-8A44-4855-9E07-2B98A2FE07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деце са мишићном дистрофијом подразумев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ултидисциплинарни присту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кључени су неуролог, ортопед, кардиолог, пулмолог, психијатар, физијатар, радни терапеут, медицинска сестра, социјални радник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Њихов заједнички циљ је да допринесу што бољем квалитету живота оболели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9C88-6DE4-4D6F-A916-FC3C8DA49B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Главни циљ физикалне терапи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е очување снаге и флексибилности мишића и савлађивање  контрактура  у зглобовим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Одржавање обима покрета у зглоб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хабилитација и значај у одржавању што боље моторне функције, спречавање настанка дефомит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дикована је и примена ортоза и других помагала у активностима дневног живо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рехабилитационом третману значајном место заузима 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еспираторна  рехабилитац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одржавања плућ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B47C-DD0C-4E36-9C52-7A7C97EEC9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сновни задаци рехабилитације с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секундарне инвалид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о дуже очување снаге и употребљивости ослабљених мишићних г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лагање видљивих манифестација неспособности које угрожавају функционалне и социјалне вред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EF0-DE04-4649-96A0-655A63C9C24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ЕЛОМИ БУТНЕ К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37720" y="17524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утна кост спада у дуге кости, а према својој је конструкцији најчвршћа од свих дугих ко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представљају значајан узрок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орбидитет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морталитет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групи повреда локомоторног апар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4D2-6A60-43A9-A16C-4504D4812FD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-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КИНЕЗИ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циљу одржавања и поправљања постојеће функције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ординације покр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влађивање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настанка примарних и инактивитетних мишићних атрофиј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теопороз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фомитета кичменог стуб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ремећаја циркулације, дисајне вежб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E3F-8CE5-419D-A99C-8B7D31E044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  (као уводна у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А - ЕФ КЈ, КТД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експоненцијалним стријама, према ММТ-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 (хидрокинетске и хидротермалне процедур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ДНА 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А ОРТ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0044-FD29-4923-9AB4-AEC3CA358D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762120" y="1599840"/>
            <a:ext cx="5029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настају деловањем  пренесене  силе (саобраћајне несреће и падови- ОП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елимо их н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горњег окрајка бутне кост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дијафизе бутне кости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 доњег окрајка бутне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AD86-E0A1-4EDA-AC31-E1F33FF2CB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6094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РЕЛОМИ БУТНЕ КОСТ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9:22:16Z</dcterms:modified>
  <cp:revision>988</cp:revision>
  <dc:subject/>
  <dc:title>Rehabilitacija traumatoloških bolesnika</dc:title>
</cp:coreProperties>
</file>